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0C1-BE2B-43E1-A119-A44747FC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7B9-6397-419D-BD53-925FB2E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E33-6B4B-40B5-A7E0-73F83B5B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345-292C-4026-95E9-114C9EB8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FD6-B02D-4D79-8C37-E56403C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61-D9FA-4EB7-BA90-D3EEBB0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268-E88A-4455-B559-E913017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CD7-F39C-418D-B295-F7EF08E3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226-86B4-4A21-9C0C-15DD1E7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F9D-1DCB-4B23-8AA7-0642995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A24-EE8E-4CFB-AA41-81054D5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3F8-8367-4CE8-B95B-58863C1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2976-AB44-485C-B675-4E9E35402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itos"/>
          <p:cNvPicPr/>
          <p:nvPr/>
        </p:nvPicPr>
        <p:blipFill>
          <a:blip r:embed="rId2"/>
          <a:stretch/>
        </p:blipFill>
        <p:spPr>
          <a:xfrm>
            <a:off x="2124000" y="1413000"/>
            <a:ext cx="4918320" cy="3695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50524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.01.1874 – 31.10.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419640" y="60768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1:02Z</dcterms:created>
  <dc:creator>rena</dc:creator>
  <dc:description/>
  <dc:language>en-US</dc:language>
  <cp:lastModifiedBy>rena</cp:lastModifiedBy>
  <dcterms:modified xsi:type="dcterms:W3CDTF">2013-03-05T18:42:22Z</dcterms:modified>
  <cp:revision>4</cp:revision>
  <dc:subject/>
  <dc:title>WINCENTY WITOS</dc:title>
</cp:coreProperties>
</file>